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328C-6FE5-4BB8-816C-3FDDEC64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. I am going to warm the audience up with a background of my topic and some interesting stat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’m done talking about my findings and research, I am going to wrap up my main points and summarize my whole presen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working on a conclusio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working on a conclus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going to bring up the main points that need to be discussed and the order I am going to do it in (Prevention and awareness). High schools aren’t taking high school injuries and aren’t prepared for these inju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’m done introducing my topic and some background information I am going to provide context. I am going to talk about personal stories that I want to share with the audience about my injuries in high school athletics and some of my friends injuries that have affected their high school care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slide th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 am going to start talking about my findings. I will talk about how these injuries are increasing due to the lack of parental and student awareness, professional care and physical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DEB-8D27-44D5-B34B-65B12D83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866-165C-4B92-91AC-6EE5F9D4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C36-1230-4475-B017-399EB32C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D46-7359-42FF-864D-C2ADB1EB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D8C-FE29-44C4-BCAC-992E954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DD7-2BA4-476B-9393-F1C7F6F4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2A3-56E5-4BB0-A783-CE90D015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616-77A6-4451-A6C8-1A8CDD2C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915-ADA5-4997-8D38-7CEC685A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7BB-7FB6-4A97-9831-6F9F8298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B93-B01E-43C8-971E-658D03FC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4F8-7CC0-495D-8A4E-A713DF05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2402-F534-4B35-A054-FE4EFE6F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920"/>
            <a:ext cx="647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“…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,000,000 injuries, 500,000 doctors visits and 30,000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spitalization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nuall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1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alth Bl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blogs.consumerreports.org/‌health/‌2009/‌09/‌high...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Practice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w York Ti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ell.blogs.nytimes.com/‌tag/‌concussions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2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w York Ti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ell.blogs.nytimes.com/‌tag/‌concussions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race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drugs.com/‌news/‌high-school-sports-put-players-risk-severe-injuries-19691.html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chool Athletic Training 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llege Sports Scholarshi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collegesportsscholarships.com/‌sports-medicine-athletic-staff-training.htm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1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alth Blo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blogs.consumerreports.org/‌health/‌2009/‌09/‌high...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Practice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w York Ti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ell.blogs.nytimes.com/‌tag/‌concussions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all 2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w York Ti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ell.blogs.nytimes.com/‌tag/‌concussions/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brace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drugs.com/‌news/‌high-school-sports-put-players-risk-severe-injuries-19691.html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chool Athletic Training . N.d. Personal photograph by author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llege Sports Scholarshi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N.p., n.d. Web. 18 Dec. 2009. &lt;http://www.collegesportsscholarships.com/‌sports-medicine-athletic-staff-training.htm&gt;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3:33:00Z</dcterms:created>
  <dc:creator>106094hss</dc:creator>
  <dc:description/>
  <dc:language>en-US</dc:language>
  <cp:lastModifiedBy>106094hss</cp:lastModifiedBy>
  <dcterms:modified xsi:type="dcterms:W3CDTF">2009-12-18T12:39:40Z</dcterms:modified>
  <cp:revision>8</cp:revision>
  <dc:subject/>
  <dc:title>Slide 1</dc:title>
</cp:coreProperties>
</file>